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camera.wav" ContentType="audio/x-wav"/>
  <Override PartName="/ppt/media/image21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C5FF-F7CD-40C6-95BB-E4EADC82B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DE7F-79D1-459D-A263-461B81880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EB19-1CBF-4DFE-897A-81E824628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9B59-643F-4885-B989-BAF75CB4A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99A0-8FC3-4310-98F8-FCD1F3570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4E2F-9600-46CE-8782-684520A69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2DD4-2033-45FF-A0F3-3DF4F6B99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BDED-31BB-4DDF-8109-9BFC6F23E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96B0-B012-4449-BA2E-9C5528BF8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BAEC-BFBA-4548-8501-860FEE0E8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301B-0F6C-419F-A2D9-1B56D4982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D4A5-17A7-47F8-8E28-D1177186D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49C0-2C1C-4DBA-BAC9-5B6EEB19D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175C-F426-46A2-AC40-6B1D58E9A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F238-B159-44B2-B6D7-68ABB4AB5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FE88-6064-482C-A0E1-29BB671CA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DF11-2345-4847-8EFA-7A844DDBF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B173-E9B6-4655-AA74-7F73C3FBC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FBB1-C374-48EF-A501-62D6E283C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B97D-DFD3-4AF9-859A-7AB9BDAB3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45A0-4D4D-40B1-B66A-1CBB8CCA0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207A-99C4-40A2-B0B5-F5DE2BC61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234A-F756-4CED-8FF8-C00DB10F2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46D0-8448-4762-A44D-65B87086C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F2E3-DD37-41B6-B127-9EEB8A9D9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65F0-6473-4A4A-A008-614DF7597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7914-A507-42D2-B4C9-744C59F01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F78D-B517-481D-A543-1CB57BB0A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5E96-18C7-4591-B3AA-DB0156606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2991-0929-4B8D-827B-1AA7B9660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2DAD-82CB-479D-BB3C-E59166C15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265E-CE5F-48F9-A850-77E148232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6DA8-E5E5-476E-82A4-655C4C645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8DB3-C122-4C23-AC8D-78A628AF1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CB36-76A7-47F9-8A25-01F5A1717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40D2-6BE3-48BA-96C7-DDAC513EE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ACFD-D658-4A85-89A5-7C0AD90BF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AA0F-21F4-42A4-B168-8BADBB0DF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EC05-A695-42E4-82E0-E9E96CB8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DAE0-FC79-42EC-8D24-FE2D51561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224D-BF69-41D1-86D2-E0F90C516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2572-3B5B-4CBC-BD5B-FB0834D6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14C8-5627-42FE-A770-5A28FF20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DBA5-B326-4E57-8D0E-8C6451A1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11BE-842F-47E2-B256-4C509414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F2BE-DEFB-45C8-B5B4-A35970C3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4AD4-BA1A-4233-A994-89D1703A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1395-70D2-452B-8FD2-078FB10C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49B9-D468-4FE0-9CF4-BD0749FF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BDC5-9F3B-436C-9D72-DCDE949ED77E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07/28/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fld id="{FECF76F2-FCAC-4F88-8D6A-1E5515B1571C}" type="datetime12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02:52 PM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B1E7-2F4C-4855-80F1-C5D4EAE2CD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ig5.ce.cn/travel/lyzy/lyzy/200505/18/t20050518_3858622.shtml" TargetMode="Externa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219320" y="8380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中國境內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8 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處公認超級美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59800" y="2133720"/>
            <a:ext cx="7822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雲南羅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四川：稻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湖南吉首鳳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新疆帕米爾高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浙江烏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瀘沽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紅水河岸上風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長白山天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廣西龍脊梯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北海圍洲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周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雲南元陽梯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雲南麗江玉龍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四川阿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貴州雷山縣西江千戶苗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千島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新疆阿爾泰白哈巴（中哈邊境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太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971800" y="51814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99cc"/>
                </a:solidFill>
                <a:latin typeface="Times New Roman"/>
              </a:rPr>
              <a:t>手動播放</a:t>
            </a:r>
            <a:r>
              <a:rPr b="0" lang="en-US" sz="1600" spc="-1" strike="noStrike">
                <a:solidFill>
                  <a:srgbClr val="ff99cc"/>
                </a:solidFill>
                <a:latin typeface="Times New Roman"/>
              </a:rPr>
              <a:t>(</a:t>
            </a:r>
            <a:r>
              <a:rPr b="0" lang="zh-TW" sz="1600" spc="-1" strike="noStrike">
                <a:solidFill>
                  <a:srgbClr val="ff99cc"/>
                </a:solidFill>
                <a:latin typeface="Times New Roman"/>
              </a:rPr>
              <a:t>按滑鼠左鍵換頁</a:t>
            </a:r>
            <a:r>
              <a:rPr b="0" lang="en-US" sz="1600" spc="-1" strike="noStrike">
                <a:solidFill>
                  <a:srgbClr val="ff99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E:\PPS\pps02\中國公認最美麗的地方\新疆帕米爾高原.jpg"/>
          <p:cNvPicPr/>
          <p:nvPr/>
        </p:nvPicPr>
        <p:blipFill>
          <a:blip r:embed="rId2"/>
          <a:stretch/>
        </p:blipFill>
        <p:spPr>
          <a:xfrm>
            <a:off x="2438280" y="457200"/>
            <a:ext cx="6172200" cy="46911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2666880" y="533412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標楷體"/>
              </a:rPr>
              <a:t>新疆帕米爾高原</a:t>
            </a:r>
            <a:r>
              <a:rPr b="1" lang="en-US" sz="2400" spc="-1" strike="noStrike">
                <a:solidFill>
                  <a:srgbClr val="3333cc"/>
                </a:solidFill>
                <a:latin typeface="標楷體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495440" y="380880"/>
            <a:ext cx="5461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帕米爾位於新疆西南部，古代稱為蔥嶺，向有世界屋脊之稱；按照自然地理狀況，可分為八個部分，文稱八（帕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E:\PPS\pps02\中國公認最美麗的地方\新疆帕米爾高原02.jpg"/>
          <p:cNvPicPr/>
          <p:nvPr/>
        </p:nvPicPr>
        <p:blipFill>
          <a:blip r:embed="rId2"/>
          <a:stretch/>
        </p:blipFill>
        <p:spPr>
          <a:xfrm>
            <a:off x="2666880" y="685800"/>
            <a:ext cx="6248520" cy="41623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1782720" y="457200"/>
            <a:ext cx="5461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帕米爾共分八（帕），由北向南依次為：和什庫珠克帕米爾、薩雷茲帕米爾、郎庫裏帕米爾、阿爾楚爾柏米爾、大帕米爾、小帕米爾、塔克敦巴什帕米爾、瓦罕帕米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895480" y="525780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標楷體"/>
              </a:rPr>
              <a:t>新疆帕米爾高原</a:t>
            </a:r>
            <a:r>
              <a:rPr b="1" lang="en-US" sz="2400" spc="-1" strike="noStrike">
                <a:solidFill>
                  <a:srgbClr val="3333cc"/>
                </a:solidFill>
                <a:latin typeface="標楷體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E:\PPS\pps02\中國公認最美麗的地方\新疆帕米爾高原03.jpg"/>
          <p:cNvPicPr/>
          <p:nvPr/>
        </p:nvPicPr>
        <p:blipFill>
          <a:blip r:embed="rId2"/>
          <a:stretch/>
        </p:blipFill>
        <p:spPr>
          <a:xfrm>
            <a:off x="2286000" y="609480"/>
            <a:ext cx="6375240" cy="44974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1463760" y="380880"/>
            <a:ext cx="5461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清朝在阿爾楚爾帕內立有記功碑；在各帕共建有八所卡倫；帕米爾是我國塔吉克族和柯爾克孜族居住、遊牧的地方，直到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19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世紀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70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年代一直屬於中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666880" y="533412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標楷體"/>
              </a:rPr>
              <a:t>新疆帕米爾高原</a:t>
            </a:r>
            <a:r>
              <a:rPr b="1" lang="en-US" sz="2400" spc="-1" strike="noStrike">
                <a:solidFill>
                  <a:srgbClr val="3333cc"/>
                </a:solidFill>
                <a:latin typeface="標楷體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E:\PPS\pps02\中國公認最美麗的地方\浙江烏鎮02.jpg"/>
          <p:cNvPicPr/>
          <p:nvPr/>
        </p:nvPicPr>
        <p:blipFill>
          <a:blip r:embed="rId2"/>
          <a:stretch/>
        </p:blipFill>
        <p:spPr>
          <a:xfrm>
            <a:off x="1905120" y="457200"/>
            <a:ext cx="6858000" cy="4608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3200400" y="53341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標楷體"/>
              </a:rPr>
              <a:t>浙江烏鎮</a:t>
            </a:r>
            <a:r>
              <a:rPr b="1" lang="en-US" sz="2400" spc="-1" strike="noStrike">
                <a:solidFill>
                  <a:srgbClr val="3333cc"/>
                </a:solidFill>
                <a:latin typeface="標楷體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650160" y="380880"/>
            <a:ext cx="11023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烏鎮古時候稱為烏墩，春秋時此地為吳疆越界，到唐代咸通年間始稱烏鎮。這裡歷史淵源流長，六千多年前，烏鎮的祖先就繁衍、生息在這裡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E:\PPS\pps02\中國公認最美麗的地方\浙江烏鎮.jpg"/>
          <p:cNvPicPr/>
          <p:nvPr/>
        </p:nvPicPr>
        <p:blipFill>
          <a:blip r:embed="rId2"/>
          <a:stretch/>
        </p:blipFill>
        <p:spPr>
          <a:xfrm>
            <a:off x="2133720" y="304920"/>
            <a:ext cx="6629400" cy="50385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3200400" y="5486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標楷體"/>
              </a:rPr>
              <a:t>浙江烏鎮</a:t>
            </a:r>
            <a:r>
              <a:rPr b="1" lang="en-US" sz="2400" spc="-1" strike="noStrike">
                <a:solidFill>
                  <a:srgbClr val="3333cc"/>
                </a:solidFill>
                <a:latin typeface="標楷體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25040" y="228600"/>
            <a:ext cx="1102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烏鎮位於浙江省桐鄉縣北部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,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地勢低窪，為河流沖積和湖沼淤積平原，河港密布、縱橫交叉，具有濃厚的水鄉特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E:\PPS\pps02\中國公認最美麗的地方\浙江烏鎮03.jpg"/>
          <p:cNvPicPr/>
          <p:nvPr/>
        </p:nvPicPr>
        <p:blipFill>
          <a:blip r:embed="rId2"/>
          <a:stretch/>
        </p:blipFill>
        <p:spPr>
          <a:xfrm>
            <a:off x="2666880" y="380880"/>
            <a:ext cx="6096240" cy="40957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3733920" y="4724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標楷體"/>
              </a:rPr>
              <a:t>浙江烏鎮</a:t>
            </a:r>
            <a:r>
              <a:rPr b="1" lang="en-US" sz="2400" spc="-1" strike="noStrike">
                <a:solidFill>
                  <a:srgbClr val="3333cc"/>
                </a:solidFill>
                <a:latin typeface="標楷體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226520" y="304920"/>
            <a:ext cx="11023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此處鐘靈毓秀，自古人才輩出。如今的烏鎮仍保留著許多水鄉所特有的河港、橋梁、臨河建築、街道、店面等。清晨或傍晚你若沿東西市河漫步，將使你留戀忘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E:\PPS\pps02\中國公認最美麗的地方\瀘沽湖02.jpg"/>
          <p:cNvPicPr/>
          <p:nvPr/>
        </p:nvPicPr>
        <p:blipFill>
          <a:blip r:embed="rId2"/>
          <a:stretch/>
        </p:blipFill>
        <p:spPr>
          <a:xfrm>
            <a:off x="2057400" y="457200"/>
            <a:ext cx="6477120" cy="4923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2362320" y="54864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瀘沽湖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281240" y="380880"/>
            <a:ext cx="5461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被摩梭人稱為（母親湖）的瀘沽湖，是瀘沽湖風景名勝自然景觀的重要組成部分和背景，素有（高原明珠）之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E:\PPS\pps02\中國公認最美麗的地方\瀘沽湖03.jpg"/>
          <p:cNvPicPr/>
          <p:nvPr/>
        </p:nvPicPr>
        <p:blipFill>
          <a:blip r:embed="rId2"/>
          <a:stretch/>
        </p:blipFill>
        <p:spPr>
          <a:xfrm>
            <a:off x="2514600" y="304920"/>
            <a:ext cx="6324480" cy="47433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1889280" y="304920"/>
            <a:ext cx="5461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湖中各島，形態各異，身臨其間，水天一色，清澈如鏡，藻花點綴其間，緩緩滑行於碧波之上的豬槽船和徐徐飄浮於水天之間的摩梭民歌，使其更增添幾分古樸、幾分寧靜，是一個遠離囂市，未被污染的處女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743200" y="5257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瀘沽湖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E:\PPS\pps02\中國公認最美麗的地方\紅水河岸上風光.jpg"/>
          <p:cNvPicPr/>
          <p:nvPr/>
        </p:nvPicPr>
        <p:blipFill>
          <a:blip r:embed="rId2"/>
          <a:stretch/>
        </p:blipFill>
        <p:spPr>
          <a:xfrm>
            <a:off x="2362320" y="228600"/>
            <a:ext cx="6553080" cy="49798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2971800" y="5410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紅水河岸上風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587600" y="304920"/>
            <a:ext cx="5461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處處是高聳的峰叢，放眼望去重巒迭嶂，高低錯落變化無窮，擬人擬物，俯首遠眺隱約察覺村寨、田間和水池交織其間，不禁嗟嘆這小小的一隅之谷猶如世外桃源，大有恍若隔世之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E:\PPS\pps02\中國公認最美麗的地方\長白山天池.jpg"/>
          <p:cNvPicPr/>
          <p:nvPr/>
        </p:nvPicPr>
        <p:blipFill>
          <a:blip r:embed="rId2"/>
          <a:stretch/>
        </p:blipFill>
        <p:spPr>
          <a:xfrm>
            <a:off x="2057400" y="304920"/>
            <a:ext cx="6705720" cy="50958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1463760" y="380880"/>
            <a:ext cx="5461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長白山天池又稱白頭山天池，坐落在吉林省東南部，是中國和北韓的界湖。長白山系複合式盾形休眠火山，為中國東北和歐亞大陸東部最高峰，是松花江、鴨綠江、圖們江之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895480" y="55627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 </a:t>
            </a: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長白山天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3352680" y="5181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雲南羅平（１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E:\PPS\pps02\中國公認最美麗的地方\雲南羅平.jpg"/>
          <p:cNvPicPr/>
          <p:nvPr/>
        </p:nvPicPr>
        <p:blipFill>
          <a:blip r:embed="rId2"/>
          <a:stretch/>
        </p:blipFill>
        <p:spPr>
          <a:xfrm>
            <a:off x="3124080" y="304920"/>
            <a:ext cx="5715000" cy="4343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2273400" y="380880"/>
            <a:ext cx="5461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羅平位於雲南省東部，地處滇、桂、黔三省（區）結合部，素有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滇東門戶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，（滇黔鎖鑰）之稱；歷史悠久，山奇水秀：境內深溝峽谷縱橫，盆嶺相間，碳酸鹽岩廣布，是非常典型的喀斯特地貌奇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E:\PPS\pps02\中國公認最美麗的地方\廣西龍勝梯田.jpg"/>
          <p:cNvPicPr/>
          <p:nvPr/>
        </p:nvPicPr>
        <p:blipFill>
          <a:blip r:embed="rId2"/>
          <a:stretch/>
        </p:blipFill>
        <p:spPr>
          <a:xfrm>
            <a:off x="1752480" y="228600"/>
            <a:ext cx="7086600" cy="53863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1130400" y="304920"/>
            <a:ext cx="54612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梯田的規模磅薄壯觀、氣勢恢宏，線條行雲流水、瀟灑流暢，為天下梯田所望塵莫及；雖說南國山區處處有梯田，可是像龍脊梯田這樣大規模的集中實屬罕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657600" y="5943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819520" y="5638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廣西龍脊梯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E:\PPS\pps02\中國公認最美麗的地方\北海圍洲島風光.jpg"/>
          <p:cNvPicPr/>
          <p:nvPr/>
        </p:nvPicPr>
        <p:blipFill>
          <a:blip r:embed="rId2"/>
          <a:stretch/>
        </p:blipFill>
        <p:spPr>
          <a:xfrm>
            <a:off x="2209680" y="304920"/>
            <a:ext cx="6629400" cy="5038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960840" y="304920"/>
            <a:ext cx="12776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潿洲島是中國最大的死火山島，位於北海市東南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海哩處，與銀灘隔海相望。在它的附近有一個斜陽島，站在潿洲島上可以觀看到太陽斜照該島的情景，這就是著名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潿州斜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362320" y="54864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充滿夢幻的島嶼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潿洲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E:\PPS\pps02\中國公認最美麗的地方\周莊.jpg"/>
          <p:cNvPicPr/>
          <p:nvPr/>
        </p:nvPicPr>
        <p:blipFill>
          <a:blip r:embed="rId2"/>
          <a:stretch/>
        </p:blipFill>
        <p:spPr>
          <a:xfrm>
            <a:off x="2057400" y="457200"/>
            <a:ext cx="6629400" cy="50385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2819520" y="55627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周莊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414000" y="457200"/>
            <a:ext cx="1643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周莊鎮位於蘇州城東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公里，著名古畫家吳冠中撰文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黃山集中國山川之美、周莊集中國水鄉之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，海外報刊則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周莊為中國第一水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E:\PPS\pps02\中國公認最美麗的地方\周莊02.jpg"/>
          <p:cNvPicPr/>
          <p:nvPr/>
        </p:nvPicPr>
        <p:blipFill>
          <a:blip r:embed="rId2"/>
          <a:stretch/>
        </p:blipFill>
        <p:spPr>
          <a:xfrm>
            <a:off x="2133720" y="685800"/>
            <a:ext cx="6781680" cy="45259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1145520" y="380880"/>
            <a:ext cx="9118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周莊有著近九百年的歷史，有豐富的文化蘊涵。西晉文學家張翰，唐代詩人劉禹錫、陸龜蒙等曾居周莊。周莊也是元末明初江南巨富沈萬三的故鄉；周莊也曾留下柳亞子、陳去病等人的足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971800" y="54100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周莊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E:\PPS\pps02\中國公認最美麗的地方\雲南元陽梯田.jpg"/>
          <p:cNvPicPr/>
          <p:nvPr/>
        </p:nvPicPr>
        <p:blipFill>
          <a:blip r:embed="rId2"/>
          <a:stretch/>
        </p:blipFill>
        <p:spPr>
          <a:xfrm>
            <a:off x="1905120" y="304920"/>
            <a:ext cx="6933960" cy="5270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246600" y="304920"/>
            <a:ext cx="16585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海拔２５００米的雲南哀牢山區元陽梯田平地極少，層層疊疊的梯田，天梯一樣沿著山坡直上雲天，就像從人間登上天堂的天梯，非常壯觀美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2895480" y="5562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雲南元陽梯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E:\PPS\pps02\中國公認最美麗的地方\雲南麗江玉龍山02.jpg"/>
          <p:cNvPicPr/>
          <p:nvPr/>
        </p:nvPicPr>
        <p:blipFill>
          <a:blip r:embed="rId2"/>
          <a:stretch/>
        </p:blipFill>
        <p:spPr>
          <a:xfrm>
            <a:off x="1828800" y="304920"/>
            <a:ext cx="7086600" cy="53863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7"/>
          <p:cNvSpPr/>
          <p:nvPr/>
        </p:nvSpPr>
        <p:spPr>
          <a:xfrm>
            <a:off x="732600" y="304920"/>
            <a:ext cx="9118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玉龍雪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位於麗江的西北部，距離縣城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公里。在麗江古城中可以看到玉龍雪山的主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海拔５５９６米的扇子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2286000" y="57913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Times New Roman"/>
              </a:rPr>
              <a:t>雲南麗江玉龍山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E:\PPS\pps02\中國公認最美麗的地方\雲南麗江玉龍山03.jpg"/>
          <p:cNvPicPr/>
          <p:nvPr/>
        </p:nvPicPr>
        <p:blipFill>
          <a:blip r:embed="rId2"/>
          <a:stretch/>
        </p:blipFill>
        <p:spPr>
          <a:xfrm>
            <a:off x="1828800" y="304920"/>
            <a:ext cx="7010280" cy="52578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732600" y="228600"/>
            <a:ext cx="9118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玉龍雪山主峰還是一座處女峰，尚未被人類征服。山上經常雲遮霧罩，只有太陽很好的時候，才能一睹真容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2514600" y="57150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Times New Roman"/>
              </a:rPr>
              <a:t>雲南麗江玉龍山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E:\PPS\pps02\中國公認最美麗的地方\四川阿壩03.jpg"/>
          <p:cNvPicPr/>
          <p:nvPr/>
        </p:nvPicPr>
        <p:blipFill>
          <a:blip r:embed="rId2"/>
          <a:stretch/>
        </p:blipFill>
        <p:spPr>
          <a:xfrm>
            <a:off x="2133720" y="304920"/>
            <a:ext cx="6781680" cy="51544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1069200" y="380880"/>
            <a:ext cx="91188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阿壩縣為藏名的譯音，走音甚大，唐太宗貞觀年間，腹地阿裏一帶遷民至本地並居住下來繁衍生息。他們自稱（阿裏娃）。縣內野生動、植物中藥材品種繁多，量多質好，旅遊資源十分豐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200400" y="56386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四川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阿壩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E:\PPS\pps02\中國公認最美麗的地方\四川阿壩02.jpg"/>
          <p:cNvPicPr/>
          <p:nvPr/>
        </p:nvPicPr>
        <p:blipFill>
          <a:blip r:embed="rId2"/>
          <a:stretch/>
        </p:blipFill>
        <p:spPr>
          <a:xfrm>
            <a:off x="1981080" y="304920"/>
            <a:ext cx="6934320" cy="52005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3048120" y="56386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四川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阿壩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538280" y="304920"/>
            <a:ext cx="54612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全縣旅遊資源十分豐富。東北部有高原濕地生態系統，西北部有高原山地生態系統，南部有高山峽谷、原始森林生態系統等自然景觀區，中部有 （安多民族文化走廊）等人文景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3" descr="E:\PPS\pps02\中國公認最美麗的地方\貴州雷山縣西江千戶苗寨.jpg"/>
          <p:cNvPicPr/>
          <p:nvPr/>
        </p:nvPicPr>
        <p:blipFill>
          <a:blip r:embed="rId1"/>
          <a:stretch/>
        </p:blipFill>
        <p:spPr>
          <a:xfrm>
            <a:off x="1981080" y="380880"/>
            <a:ext cx="6820200" cy="51832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2286000" y="56386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Times New Roman"/>
              </a:rPr>
              <a:t>貴州雷山縣西江千戶苗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463760" y="228600"/>
            <a:ext cx="5461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　雷山縣西江千戶苗寨是全國最大的苗族村寨，全寨１２００多戶、６０００餘人，苗族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%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。黎平肇興侗寨有９００多戶人家、３８００餘人，故有（侗鄉第一寨）之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2" descr="E:\蘊涵.jpg"/>
          <p:cNvPicPr/>
          <p:nvPr/>
        </p:nvPicPr>
        <p:blipFill>
          <a:blip r:embed="rId2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3352680" y="5181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雲南羅平（２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349360" y="304920"/>
            <a:ext cx="5461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這裡有氣勢雄偉的瀑布群落、幽深險峻的峽谷、挺撥秀麗的峰叢、獨特的地貌奇觀、蒼莽的林海、溢彩溜金的油菜花海、蜿蜒曲折的河流、玲瓏剔透的灘跌、碧綠如玉的湖泊、古樸濃郁的民族風情、豐富的文物古跡等構成了自然、人文景觀薈萃的旅遊勝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E:\PPS\pps02\中國公認最美麗的地方\雲南羅平02.jpg"/>
          <p:cNvPicPr/>
          <p:nvPr/>
        </p:nvPicPr>
        <p:blipFill>
          <a:blip r:embed="rId2"/>
          <a:stretch/>
        </p:blipFill>
        <p:spPr>
          <a:xfrm>
            <a:off x="3048120" y="533520"/>
            <a:ext cx="57150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2514600" y="54864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Times New Roman"/>
              </a:rPr>
              <a:t>貴州雷山縣西江千戶苗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4" descr="E:\PPS\pps02\中國公認最美麗的地方\貴州雷山縣西江千戶苗寨02.jpg"/>
          <p:cNvPicPr/>
          <p:nvPr/>
        </p:nvPicPr>
        <p:blipFill>
          <a:blip r:embed="rId2"/>
          <a:stretch/>
        </p:blipFill>
        <p:spPr>
          <a:xfrm>
            <a:off x="2286000" y="609480"/>
            <a:ext cx="6629400" cy="46738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1037520" y="228600"/>
            <a:ext cx="9118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全寨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個家族，每個家族有一座鼓樓，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座鼓樓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座花橋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座侗戲樓，這些極富侗族建築特點的建築物至今保存完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E:\PPS\pps02\中國公認最美麗的地方\千島湖02.jpg"/>
          <p:cNvPicPr/>
          <p:nvPr/>
        </p:nvPicPr>
        <p:blipFill>
          <a:blip r:embed="rId2"/>
          <a:stretch/>
        </p:blipFill>
        <p:spPr>
          <a:xfrm>
            <a:off x="2600280" y="453960"/>
            <a:ext cx="6010200" cy="44258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3048120" y="51814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浙江－千島湖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816200" y="380880"/>
            <a:ext cx="54612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位於中國浙江淳安縣境內的千島湖，距杭州、黃山各 １５０公里，是長江三角洲地區的後花園，景區內碧水呈奇，千島百姿，自然風光旖旎，生態環境佳絕，因湖內擁有１０７８座翠島而得名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E:\PPS\pps02\中國公認最美麗的地方\千島湖01.jpg"/>
          <p:cNvPicPr/>
          <p:nvPr/>
        </p:nvPicPr>
        <p:blipFill>
          <a:blip r:embed="rId2"/>
          <a:stretch/>
        </p:blipFill>
        <p:spPr>
          <a:xfrm>
            <a:off x="2590920" y="304920"/>
            <a:ext cx="6343560" cy="48387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3124080" y="53341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浙江－千島湖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892160" y="304920"/>
            <a:ext cx="5461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千島湖因其山青、水秀、洞奇、石怪而被譽為（千島碧水畫中游）。整個湖區分為東北、東南、西北、西南、中心五大湖區。千島湖碧波萬傾，千島竟秀，群山疊翠，峽谷幽深，溪澗清秀，洞石奇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"/>
          <p:cNvSpPr/>
          <p:nvPr/>
        </p:nvSpPr>
        <p:spPr>
          <a:xfrm>
            <a:off x="2133720" y="57150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Times New Roman"/>
              </a:rPr>
              <a:t>新疆阿爾泰白哈巴（中哈邊境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4" descr="E:\PPS\pps02\中國公認最美麗的地方\新疆阿爾泰白哈巴.jpg"/>
          <p:cNvPicPr/>
          <p:nvPr/>
        </p:nvPicPr>
        <p:blipFill>
          <a:blip r:embed="rId2"/>
          <a:stretch/>
        </p:blipFill>
        <p:spPr>
          <a:xfrm>
            <a:off x="1714680" y="301680"/>
            <a:ext cx="6972120" cy="52992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650160" y="228600"/>
            <a:ext cx="11023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美麗的阿爾泰山，自古被譽為（金山），深藏於內陸腹地，美麗而神秘。在這裡，你會感覺到生命已融入到一種自然的從容恬淡中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E:\PPS\pps02\中國公認最美麗的地方\太湖.jpg"/>
          <p:cNvPicPr/>
          <p:nvPr/>
        </p:nvPicPr>
        <p:blipFill>
          <a:blip r:embed="rId2"/>
          <a:stretch/>
        </p:blipFill>
        <p:spPr>
          <a:xfrm>
            <a:off x="3124080" y="304920"/>
            <a:ext cx="5715000" cy="43434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"/>
          <p:cNvSpPr/>
          <p:nvPr/>
        </p:nvSpPr>
        <p:spPr>
          <a:xfrm>
            <a:off x="3352680" y="48769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太湖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2349360" y="304920"/>
            <a:ext cx="5461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太湖是位於江蘇省南部，跨蘇州、無錫兩市，是中國第三大湖。湖中島嶼疊翠沿岸青山連綿。太湖及沿湖山脈爲主的太湖風景區共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多個著名景點，總面積約３１００平方千米，以湖光山色、吳越史迹而聞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E:\PPS\pps02\中國公認最美麗的地方\太湖02.jpg"/>
          <p:cNvPicPr/>
          <p:nvPr/>
        </p:nvPicPr>
        <p:blipFill>
          <a:blip r:embed="rId2"/>
          <a:stretch/>
        </p:blipFill>
        <p:spPr>
          <a:xfrm>
            <a:off x="2857680" y="343080"/>
            <a:ext cx="5829120" cy="43718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"/>
          <p:cNvSpPr/>
          <p:nvPr/>
        </p:nvSpPr>
        <p:spPr>
          <a:xfrm>
            <a:off x="3352680" y="50292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太湖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1920960" y="228600"/>
            <a:ext cx="5461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太湖風景名勝區素以宏大的層次，豐富秀麗的湖島山水風光而著稱，蘇州沿太湖地區尤為得天獨厚，漫長而多變的湖岸線，形成豐富的沿湖景觀，山林豐茂、花果飄香、文物古跡遍佈其間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3"/>
          <p:cNvSpPr/>
          <p:nvPr/>
        </p:nvSpPr>
        <p:spPr>
          <a:xfrm>
            <a:off x="1523880" y="5257800"/>
            <a:ext cx="624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資料來源：</a:t>
            </a:r>
            <a:r>
              <a:rPr b="0" lang="zh-TW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中國經濟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523880" y="28954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4267080" y="525780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Lia 2005-05-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971800" y="4038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按滑鼠一下離開</a:t>
            </a: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E:\PPS\pps02\中國公認最美麗的地方\稻城(四川).jpg"/>
          <p:cNvPicPr/>
          <p:nvPr/>
        </p:nvPicPr>
        <p:blipFill>
          <a:blip r:embed="rId2"/>
          <a:stretch/>
        </p:blipFill>
        <p:spPr>
          <a:xfrm>
            <a:off x="2590920" y="380880"/>
            <a:ext cx="6286320" cy="42069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3429000" y="49528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稻城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四川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953640" y="380880"/>
            <a:ext cx="11023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稻城位於四川省甘孜州稻城縣，方圓７３２３平方公里的土地存留著大地最古老的記憶和大自然最真最純的心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E:\PPS\pps02\中國公認最美麗的地方\稻城(四川)02.jpg"/>
          <p:cNvPicPr/>
          <p:nvPr/>
        </p:nvPicPr>
        <p:blipFill>
          <a:blip r:embed="rId2"/>
          <a:stretch/>
        </p:blipFill>
        <p:spPr>
          <a:xfrm>
            <a:off x="762120" y="380880"/>
            <a:ext cx="7772400" cy="52707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2362320" y="5715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稻城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四川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E:\PPS\pps02\中國公認最美麗的地方\稻城(四川)03.jpg"/>
          <p:cNvPicPr/>
          <p:nvPr/>
        </p:nvPicPr>
        <p:blipFill>
          <a:blip r:embed="rId2"/>
          <a:stretch/>
        </p:blipFill>
        <p:spPr>
          <a:xfrm>
            <a:off x="762120" y="380880"/>
            <a:ext cx="7619760" cy="52768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2286000" y="57150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稻城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四川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E:\PPS\pps02\中國公認最美麗的地方\湖南吉首鳳凰03.jpg"/>
          <p:cNvPicPr/>
          <p:nvPr/>
        </p:nvPicPr>
        <p:blipFill>
          <a:blip r:embed="rId2"/>
          <a:stretch/>
        </p:blipFill>
        <p:spPr>
          <a:xfrm>
            <a:off x="2057400" y="457200"/>
            <a:ext cx="6705720" cy="5029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1326960" y="380880"/>
            <a:ext cx="5461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鳳凰縣位於湖南吉首市與懷化市之間偏西的地方，城區傍沱江而建。沱江如酒，沿江的吊角樓就如美人醉酒一樣憨態可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124080" y="55627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湖南吉首鳳凰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E:\PPS\pps02\中國公認最美麗的地方\湖南吉首鳳凰.jpg"/>
          <p:cNvPicPr/>
          <p:nvPr/>
        </p:nvPicPr>
        <p:blipFill>
          <a:blip r:embed="rId2"/>
          <a:stretch/>
        </p:blipFill>
        <p:spPr>
          <a:xfrm>
            <a:off x="2895480" y="533520"/>
            <a:ext cx="5715000" cy="43434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3581280" y="548640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505320" y="51814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湖南吉首鳳凰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1920960" y="380880"/>
            <a:ext cx="5461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城外，有天星山，拔地而起，如利劍穿空。山頂有一平臺，中有 （天池），汩汩溪流，卻久旱不涸。山下有奇梁洞，洞內有雲霧山、天堂、龍宮、陰陽河等景，集桂林、張家界奇景於一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1784160" y="380880"/>
            <a:ext cx="54612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　　城內大街小巷中辣子與燻肉的香味四季飄香，多情湘女婆娑而過。有月光的晚上，苗民男女的對歌聲可驚醒每一扇臨水的窗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E:\PPS\pps02\中國公認最美麗的地方\湖南吉首鳳凰02.jpg"/>
          <p:cNvPicPr/>
          <p:nvPr/>
        </p:nvPicPr>
        <p:blipFill>
          <a:blip r:embed="rId2"/>
          <a:stretch/>
        </p:blipFill>
        <p:spPr>
          <a:xfrm>
            <a:off x="2819520" y="533520"/>
            <a:ext cx="5943600" cy="44575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3505320" y="51814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湖南吉首鳳凰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1T12:30:13Z</dcterms:created>
  <dc:creator>1_ro1</dc:creator>
  <dc:description/>
  <dc:language>en-US</dc:language>
  <cp:lastModifiedBy>SCCL-PC17</cp:lastModifiedBy>
  <dcterms:modified xsi:type="dcterms:W3CDTF">2009-06-19T03:19:00Z</dcterms:modified>
  <cp:revision>15</cp:revision>
  <dc:subject/>
  <dc:title>PowerPoint 簡報</dc:title>
</cp:coreProperties>
</file>