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6D0-CABA-4FFB-92FF-6F713011C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F1D3-295E-4D4A-94DC-83A46666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5BF1-FC66-47FD-9A8B-EF4A70AE4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229-C7F5-432F-93DE-83C83EA7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F4F-035B-4636-8522-045047B9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677-0D98-44FA-8DF0-868B4852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4E1-5307-489C-8B2C-215B1FFC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CEC0-7477-4A5F-9007-1FA4D4815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D40-E769-4147-B2AE-406A0D59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728-1FE7-43CB-A546-886D54E9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ED7A-DAE0-4330-BFE9-5B8FB92C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4850-76AC-451B-9C28-90214319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E9FE-24E4-4B54-A7C4-42D6A6C87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181-6128-46A2-B3B7-C43F74B1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C373-DB40-444F-9079-6A6B04B7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126-8FC4-420D-9C63-C315B07A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D73-431C-4BB4-B5F2-065105EEB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520F-B60C-4A70-968B-D931284BB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2EBC-5E3A-41F0-8A40-2DD7AB55C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B88-FA8A-468B-88CB-941750D07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D363-9B1C-4745-AA22-F97ADF08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CDD4-34AC-4B53-9EFB-822BEB93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A318-AA59-4B8D-9FC9-038BC079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D3B5-908B-413A-BF75-86EEFE89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4B07-F2E4-4312-B13D-FBE1AD8B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064D-6825-466A-8276-EB85844A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1FAE-70C0-4610-B915-35E9C43C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3D2C-34E1-4010-9BD1-F75B6759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C20C-73AC-41A5-920C-517C0814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3BEA-ED31-4674-9257-75EE4726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13E-B730-4F0A-85AA-B7514311D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4B82-A3EA-47B5-8C84-2C9AB1F0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C881-E3D4-4FC2-B716-A4847784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3219-6D6A-4C69-8671-BE334FDB8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5DB6-6AEA-4122-B5B9-A2D1336A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3A29-D670-4B38-8310-06C511401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8631-A9FE-43BE-9049-D974DF44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77D-8067-4BB2-81F9-D70AAB76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FF8-6B89-4FEF-B5D9-B6851B9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232-B28C-4263-A6C2-87F8BCE0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D71-D8BC-4DC0-93B0-32533CF6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4DC-1228-4202-8B4F-67926BF4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E4F-FA6D-4661-9F62-A7F24B2E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A95-5F30-4A21-BD47-8AD18D54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E53-E7CE-44C3-B5E2-D847845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0CC-117B-4156-AE35-7968D0F0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CCC-CAD9-44ED-8258-8D65515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74D-551D-4BB9-8D7F-29B854E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B59-4699-4C6E-A879-E883C3D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FEA5-383B-44E6-8A6A-1430FC3D7A4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fld id="{FB4014A2-E08C-4695-A5C4-F24E08EEA628}" type="datetime12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:42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D1D5-543D-4186-AE5E-371593049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ig5.ce.cn/travel/lyzy/lyzy/200505/18/t20050518_3858622.s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219320" y="8380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中國境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處公認超級美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9800" y="2133720"/>
            <a:ext cx="782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羅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：稻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帕米爾高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浙江烏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北海圍洲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麗江玉龍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阿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貴州雷山縣西江千戶苗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千島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阿爾泰白哈巴（中哈邊境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71800" y="5181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手動播放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按滑鼠左鍵換頁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PPS\pps02\中國公認最美麗的地方\新疆帕米爾高原.jpg"/>
          <p:cNvPicPr/>
          <p:nvPr/>
        </p:nvPicPr>
        <p:blipFill>
          <a:blip r:embed="rId2"/>
          <a:stretch/>
        </p:blipFill>
        <p:spPr>
          <a:xfrm>
            <a:off x="2438280" y="457200"/>
            <a:ext cx="6172200" cy="4691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95440" y="38088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位於新疆西南部，古代稱為蔥嶺，向有世界屋脊之稱；按照自然地理狀況，可分為八個部分，文稱八（帕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E:\PPS\pps02\中國公認最美麗的地方\新疆帕米爾高原02.jpg"/>
          <p:cNvPicPr/>
          <p:nvPr/>
        </p:nvPicPr>
        <p:blipFill>
          <a:blip r:embed="rId2"/>
          <a:stretch/>
        </p:blipFill>
        <p:spPr>
          <a:xfrm>
            <a:off x="2666880" y="685800"/>
            <a:ext cx="6248520" cy="4162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782720" y="45720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共分八（帕），由北向南依次為：和什庫珠克帕米爾、薩雷茲帕米爾、郎庫裏帕米爾、阿爾楚爾柏米爾、大帕米爾、小帕米爾、塔克敦巴什帕米爾、瓦罕帕米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5257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PPS\pps02\中國公認最美麗的地方\新疆帕米爾高原03.jpg"/>
          <p:cNvPicPr/>
          <p:nvPr/>
        </p:nvPicPr>
        <p:blipFill>
          <a:blip r:embed="rId2"/>
          <a:stretch/>
        </p:blipFill>
        <p:spPr>
          <a:xfrm>
            <a:off x="2286000" y="609480"/>
            <a:ext cx="6375240" cy="4497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4637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清朝在阿爾楚爾帕內立有記功碑；在各帕共建有八所卡倫；帕米爾是我國塔吉克族和柯爾克孜族居住、遊牧的地方，直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世紀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年代一直屬於中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E:\PPS\pps02\中國公認最美麗的地方\浙江烏鎮02.jpg"/>
          <p:cNvPicPr/>
          <p:nvPr/>
        </p:nvPicPr>
        <p:blipFill>
          <a:blip r:embed="rId2"/>
          <a:stretch/>
        </p:blipFill>
        <p:spPr>
          <a:xfrm>
            <a:off x="1905120" y="457200"/>
            <a:ext cx="6858000" cy="46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5334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50160" y="380880"/>
            <a:ext cx="1102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古時候稱為烏墩，春秋時此地為吳疆越界，到唐代咸通年間始稱烏鎮。這裡歷史淵源流長，六千多年前，烏鎮的祖先就繁衍、生息在這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E:\PPS\pps02\中國公認最美麗的地方\浙江烏鎮.jpg"/>
          <p:cNvPicPr/>
          <p:nvPr/>
        </p:nvPicPr>
        <p:blipFill>
          <a:blip r:embed="rId2"/>
          <a:stretch/>
        </p:blipFill>
        <p:spPr>
          <a:xfrm>
            <a:off x="213372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25040" y="228600"/>
            <a:ext cx="1102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位於浙江省桐鄉縣北部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地勢低窪，為河流沖積和湖沼淤積平原，河港密布、縱橫交叉，具有濃厚的水鄉特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PPS\pps02\中國公認最美麗的地方\浙江烏鎮03.jpg"/>
          <p:cNvPicPr/>
          <p:nvPr/>
        </p:nvPicPr>
        <p:blipFill>
          <a:blip r:embed="rId2"/>
          <a:stretch/>
        </p:blipFill>
        <p:spPr>
          <a:xfrm>
            <a:off x="2666880" y="380880"/>
            <a:ext cx="6096240" cy="409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73392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26520" y="304920"/>
            <a:ext cx="1102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此處鐘靈毓秀，自古人才輩出。如今的烏鎮仍保留著許多水鄉所特有的河港、橋梁、臨河建築、街道、店面等。清晨或傍晚你若沿東西市河漫步，將使你留戀忘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PPS\pps02\中國公認最美麗的地方\瀘沽湖02.jpg"/>
          <p:cNvPicPr/>
          <p:nvPr/>
        </p:nvPicPr>
        <p:blipFill>
          <a:blip r:embed="rId2"/>
          <a:stretch/>
        </p:blipFill>
        <p:spPr>
          <a:xfrm>
            <a:off x="2057400" y="457200"/>
            <a:ext cx="6477120" cy="492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362320" y="5486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81240" y="380880"/>
            <a:ext cx="546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被摩梭人稱為（母親湖）的瀘沽湖，是瀘沽湖風景名勝自然景觀的重要組成部分和背景，素有（高原明珠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PPS\pps02\中國公認最美麗的地方\瀘沽湖03.jpg"/>
          <p:cNvPicPr/>
          <p:nvPr/>
        </p:nvPicPr>
        <p:blipFill>
          <a:blip r:embed="rId2"/>
          <a:stretch/>
        </p:blipFill>
        <p:spPr>
          <a:xfrm>
            <a:off x="2514600" y="304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88928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湖中各島，形態各異，身臨其間，水天一色，清澈如鏡，藻花點綴其間，緩緩滑行於碧波之上的豬槽船和徐徐飄浮於水天之間的摩梭民歌，使其更增添幾分古樸、幾分寧靜，是一個遠離囂市，未被污染的處女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74320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PPS\pps02\中國公認最美麗的地方\紅水河岸上風光.jpg"/>
          <p:cNvPicPr/>
          <p:nvPr/>
        </p:nvPicPr>
        <p:blipFill>
          <a:blip r:embed="rId2"/>
          <a:stretch/>
        </p:blipFill>
        <p:spPr>
          <a:xfrm>
            <a:off x="2362320" y="228600"/>
            <a:ext cx="6553080" cy="4979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97180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8760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處處是高聳的峰叢，放眼望去重巒迭嶂，高低錯落變化無窮，擬人擬物，俯首遠眺隱約察覺村寨、田間和水池交織其間，不禁嗟嘆這小小的一隅之谷猶如世外桃源，大有恍若隔世之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E:\PPS\pps02\中國公認最美麗的地方\長白山天池.jpg"/>
          <p:cNvPicPr/>
          <p:nvPr/>
        </p:nvPicPr>
        <p:blipFill>
          <a:blip r:embed="rId2"/>
          <a:stretch/>
        </p:blipFill>
        <p:spPr>
          <a:xfrm>
            <a:off x="2057400" y="304920"/>
            <a:ext cx="6705720" cy="509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463760" y="38088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長白山天池又稱白頭山天池，坐落在吉林省東南部，是中國和北韓的界湖。長白山系複合式盾形休眠火山，為中國東北和歐亞大陸東部最高峰，是松花江、鴨綠江、圖們江之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95480" y="5562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E:\PPS\pps02\中國公認最美麗的地方\雲南羅平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7340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羅平位於雲南省東部，地處滇、桂、黔三省（區）結合部，素有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滇東門戶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，（滇黔鎖鑰）之稱；歷史悠久，山奇水秀：境內深溝峽谷縱橫，盆嶺相間，碳酸鹽岩廣布，是非常典型的喀斯特地貌奇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PPS\pps02\中國公認最美麗的地方\廣西龍勝梯田.jpg"/>
          <p:cNvPicPr/>
          <p:nvPr/>
        </p:nvPicPr>
        <p:blipFill>
          <a:blip r:embed="rId2"/>
          <a:stretch/>
        </p:blipFill>
        <p:spPr>
          <a:xfrm>
            <a:off x="1752480" y="22860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130400" y="304920"/>
            <a:ext cx="5461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梯田的規模磅薄壯觀、氣勢恢宏，線條行雲流水、瀟灑流暢，為天下梯田所望塵莫及；雖說南國山區處處有梯田，可是像龍脊梯田這樣大規模的集中實屬罕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5943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195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E:\PPS\pps02\中國公認最美麗的地方\北海圍洲島風光.jpg"/>
          <p:cNvPicPr/>
          <p:nvPr/>
        </p:nvPicPr>
        <p:blipFill>
          <a:blip r:embed="rId2"/>
          <a:stretch/>
        </p:blipFill>
        <p:spPr>
          <a:xfrm>
            <a:off x="220968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960840" y="304920"/>
            <a:ext cx="1277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洲島是中國最大的死火山島，位於北海市東南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哩處，與銀灘隔海相望。在它的附近有一個斜陽島，站在潿洲島上可以觀看到太陽斜照該島的情景，這就是著名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州斜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62320" y="5486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充滿夢幻的島嶼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潿洲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E:\PPS\pps02\中國公認最美麗的地方\周莊.jpg"/>
          <p:cNvPicPr/>
          <p:nvPr/>
        </p:nvPicPr>
        <p:blipFill>
          <a:blip r:embed="rId2"/>
          <a:stretch/>
        </p:blipFill>
        <p:spPr>
          <a:xfrm>
            <a:off x="2057400" y="45720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819520" y="5562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14000" y="457200"/>
            <a:ext cx="1643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鎮位於蘇州城東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，著名古畫家吳冠中撰文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黃山集中國山川之美、周莊集中國水鄉之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海外報刊則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為中國第一水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PPS\pps02\中國公認最美麗的地方\周莊02.jpg"/>
          <p:cNvPicPr/>
          <p:nvPr/>
        </p:nvPicPr>
        <p:blipFill>
          <a:blip r:embed="rId2"/>
          <a:stretch/>
        </p:blipFill>
        <p:spPr>
          <a:xfrm>
            <a:off x="2133720" y="685800"/>
            <a:ext cx="678168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145520" y="380880"/>
            <a:ext cx="9118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有著近九百年的歷史，有豐富的文化蘊涵。西晉文學家張翰，唐代詩人劉禹錫、陸龜蒙等曾居周莊。周莊也是元末明初江南巨富沈萬三的故鄉；周莊也曾留下柳亞子、陳去病等人的足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97180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PPS\pps02\中國公認最美麗的地方\雲南元陽梯田.jpg"/>
          <p:cNvPicPr/>
          <p:nvPr/>
        </p:nvPicPr>
        <p:blipFill>
          <a:blip r:embed="rId2"/>
          <a:stretch/>
        </p:blipFill>
        <p:spPr>
          <a:xfrm>
            <a:off x="1905120" y="304920"/>
            <a:ext cx="6933960" cy="5270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46600" y="304920"/>
            <a:ext cx="1658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２５００米的雲南哀牢山區元陽梯田平地極少，層層疊疊的梯田，天梯一樣沿著山坡直上雲天，就像從人間登上天堂的天梯，非常壯觀美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8954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E:\PPS\pps02\中國公認最美麗的地方\雲南麗江玉龍山02.jpg"/>
          <p:cNvPicPr/>
          <p:nvPr/>
        </p:nvPicPr>
        <p:blipFill>
          <a:blip r:embed="rId2"/>
          <a:stretch/>
        </p:blipFill>
        <p:spPr>
          <a:xfrm>
            <a:off x="1828800" y="30492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732600" y="304920"/>
            <a:ext cx="9118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麗江的西北部，距離縣城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。在麗江古城中可以看到玉龍雪山的主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５５９６米的扇子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28600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E:\PPS\pps02\中國公認最美麗的地方\雲南麗江玉龍山03.jpg"/>
          <p:cNvPicPr/>
          <p:nvPr/>
        </p:nvPicPr>
        <p:blipFill>
          <a:blip r:embed="rId2"/>
          <a:stretch/>
        </p:blipFill>
        <p:spPr>
          <a:xfrm>
            <a:off x="1828800" y="30492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732600" y="228600"/>
            <a:ext cx="911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主峰還是一座處女峰，尚未被人類征服。山上經常雲遮霧罩，只有太陽很好的時候，才能一睹真容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1460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E:\PPS\pps02\中國公認最美麗的地方\四川阿壩03.jpg"/>
          <p:cNvPicPr/>
          <p:nvPr/>
        </p:nvPicPr>
        <p:blipFill>
          <a:blip r:embed="rId2"/>
          <a:stretch/>
        </p:blipFill>
        <p:spPr>
          <a:xfrm>
            <a:off x="2133720" y="304920"/>
            <a:ext cx="6781680" cy="5154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069200" y="380880"/>
            <a:ext cx="91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阿壩縣為藏名的譯音，走音甚大，唐太宗貞觀年間，腹地阿裏一帶遷民至本地並居住下來繁衍生息。他們自稱（阿裏娃）。縣內野生動、植物中藥材品種繁多，量多質好，旅遊資源十分豐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0040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E:\PPS\pps02\中國公認最美麗的地方\四川阿壩02.jpg"/>
          <p:cNvPicPr/>
          <p:nvPr/>
        </p:nvPicPr>
        <p:blipFill>
          <a:blip r:embed="rId2"/>
          <a:stretch/>
        </p:blipFill>
        <p:spPr>
          <a:xfrm>
            <a:off x="1981080" y="3049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304812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38280" y="304920"/>
            <a:ext cx="5461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縣旅遊資源十分豐富。東北部有高原濕地生態系統，西北部有高原山地生態系統，南部有高山峽谷、原始森林生態系統等自然景觀區，中部有 （安多民族文化走廊）等人文景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E:\PPS\pps02\中國公認最美麗的地方\貴州雷山縣西江千戶苗寨.jpg"/>
          <p:cNvPicPr/>
          <p:nvPr/>
        </p:nvPicPr>
        <p:blipFill>
          <a:blip r:embed="rId1"/>
          <a:stretch/>
        </p:blipFill>
        <p:spPr>
          <a:xfrm>
            <a:off x="1981080" y="380880"/>
            <a:ext cx="6820200" cy="5183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22860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637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雷山縣西江千戶苗寨是全國最大的苗族村寨，全寨１２００多戶、６０００餘人，苗族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黎平肇興侗寨有９００多戶人家、３８００餘人，故有（侗鄉第一寨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E:\蘊涵.jpg"/>
          <p:cNvPicPr/>
          <p:nvPr/>
        </p:nvPicPr>
        <p:blipFill>
          <a:blip r:embed="rId2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34936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裡有氣勢雄偉的瀑布群落、幽深險峻的峽谷、挺撥秀麗的峰叢、獨特的地貌奇觀、蒼莽的林海、溢彩溜金的油菜花海、蜿蜒曲折的河流、玲瓏剔透的灘跌、碧綠如玉的湖泊、古樸濃郁的民族風情、豐富的文物古跡等構成了自然、人文景觀薈萃的旅遊勝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E:\PPS\pps02\中國公認最美麗的地方\雲南羅平02.jpg"/>
          <p:cNvPicPr/>
          <p:nvPr/>
        </p:nvPicPr>
        <p:blipFill>
          <a:blip r:embed="rId2"/>
          <a:stretch/>
        </p:blipFill>
        <p:spPr>
          <a:xfrm>
            <a:off x="3048120" y="53352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5146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E:\PPS\pps02\中國公認最美麗的地方\貴州雷山縣西江千戶苗寨02.jpg"/>
          <p:cNvPicPr/>
          <p:nvPr/>
        </p:nvPicPr>
        <p:blipFill>
          <a:blip r:embed="rId2"/>
          <a:stretch/>
        </p:blipFill>
        <p:spPr>
          <a:xfrm>
            <a:off x="2286000" y="609480"/>
            <a:ext cx="6629400" cy="4673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037520" y="228600"/>
            <a:ext cx="911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寨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家族，每個家族有一座鼓樓，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鼓樓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花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侗戲樓，這些極富侗族建築特點的建築物至今保存完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E:\PPS\pps02\中國公認最美麗的地方\千島湖02.jpg"/>
          <p:cNvPicPr/>
          <p:nvPr/>
        </p:nvPicPr>
        <p:blipFill>
          <a:blip r:embed="rId2"/>
          <a:stretch/>
        </p:blipFill>
        <p:spPr>
          <a:xfrm>
            <a:off x="2600280" y="453960"/>
            <a:ext cx="6010200" cy="4425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81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81620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中國浙江淳安縣境內的千島湖，距杭州、黃山各 １５０公里，是長江三角洲地區的後花園，景區內碧水呈奇，千島百姿，自然風光旖旎，生態環境佳絕，因湖內擁有１０７８座翠島而得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E:\PPS\pps02\中國公認最美麗的地方\千島湖01.jpg"/>
          <p:cNvPicPr/>
          <p:nvPr/>
        </p:nvPicPr>
        <p:blipFill>
          <a:blip r:embed="rId2"/>
          <a:stretch/>
        </p:blipFill>
        <p:spPr>
          <a:xfrm>
            <a:off x="2590920" y="304920"/>
            <a:ext cx="6343560" cy="4838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31240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89216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千島湖因其山青、水秀、洞奇、石怪而被譽為（千島碧水畫中游）。整個湖區分為東北、東南、西北、西南、中心五大湖區。千島湖碧波萬傾，千島竟秀，群山疊翠，峽谷幽深，溪澗清秀，洞石奇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1337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新疆阿爾泰白哈巴（中哈邊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E:\PPS\pps02\中國公認最美麗的地方\新疆阿爾泰白哈巴.jpg"/>
          <p:cNvPicPr/>
          <p:nvPr/>
        </p:nvPicPr>
        <p:blipFill>
          <a:blip r:embed="rId2"/>
          <a:stretch/>
        </p:blipFill>
        <p:spPr>
          <a:xfrm>
            <a:off x="1714680" y="301680"/>
            <a:ext cx="6972120" cy="5299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50160" y="228600"/>
            <a:ext cx="1102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美麗的阿爾泰山，自古被譽為（金山），深藏於內陸腹地，美麗而神秘。在這裡，你會感覺到生命已融入到一種自然的從容恬淡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E:\PPS\pps02\中國公認最美麗的地方\太湖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3352680" y="4876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349360" y="304920"/>
            <a:ext cx="546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是位於江蘇省南部，跨蘇州、無錫兩市，是中國第三大湖。湖中島嶼疊翠沿岸青山連綿。太湖及沿湖山脈爲主的太湖風景區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個著名景點，總面積約３１００平方千米，以湖光山色、吳越史迹而聞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PPS\pps02\中國公認最美麗的地方\太湖02.jpg"/>
          <p:cNvPicPr/>
          <p:nvPr/>
        </p:nvPicPr>
        <p:blipFill>
          <a:blip r:embed="rId2"/>
          <a:stretch/>
        </p:blipFill>
        <p:spPr>
          <a:xfrm>
            <a:off x="2857680" y="343080"/>
            <a:ext cx="5829120" cy="43718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335268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9209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風景名勝區素以宏大的層次，豐富秀麗的湖島山水風光而著稱，蘇州沿太湖地區尤為得天獨厚，漫長而多變的湖岸線，形成豐富的沿湖景觀，山林豐茂、花果飄香、文物古跡遍佈其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523880" y="525780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資料來源：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中國經濟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23880" y="2895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267080" y="5257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ia 2005-05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971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按滑鼠一下離開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PPS\pps02\中國公認最美麗的地方\稻城(四川).jpg"/>
          <p:cNvPicPr/>
          <p:nvPr/>
        </p:nvPicPr>
        <p:blipFill>
          <a:blip r:embed="rId2"/>
          <a:stretch/>
        </p:blipFill>
        <p:spPr>
          <a:xfrm>
            <a:off x="2590920" y="380880"/>
            <a:ext cx="6286320" cy="4206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4290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53640" y="380880"/>
            <a:ext cx="1102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稻城位於四川省甘孜州稻城縣，方圓７３２３平方公里的土地存留著大地最古老的記憶和大自然最真最純的心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PPS\pps02\中國公認最美麗的地方\稻城(四川)02.jpg"/>
          <p:cNvPicPr/>
          <p:nvPr/>
        </p:nvPicPr>
        <p:blipFill>
          <a:blip r:embed="rId2"/>
          <a:stretch/>
        </p:blipFill>
        <p:spPr>
          <a:xfrm>
            <a:off x="762120" y="380880"/>
            <a:ext cx="7772400" cy="5270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3623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E:\PPS\pps02\中國公認最美麗的地方\稻城(四川)03.jpg"/>
          <p:cNvPicPr/>
          <p:nvPr/>
        </p:nvPicPr>
        <p:blipFill>
          <a:blip r:embed="rId2"/>
          <a:stretch/>
        </p:blipFill>
        <p:spPr>
          <a:xfrm>
            <a:off x="762120" y="380880"/>
            <a:ext cx="7619760" cy="5276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28600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E:\PPS\pps02\中國公認最美麗的地方\湖南吉首鳳凰03.jpg"/>
          <p:cNvPicPr/>
          <p:nvPr/>
        </p:nvPicPr>
        <p:blipFill>
          <a:blip r:embed="rId2"/>
          <a:stretch/>
        </p:blipFill>
        <p:spPr>
          <a:xfrm>
            <a:off x="20574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32696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鳳凰縣位於湖南吉首市與懷化市之間偏西的地方，城區傍沱江而建。沱江如酒，沿江的吊角樓就如美人醉酒一樣憨態可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124080" y="5562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PPS\pps02\中國公認最美麗的地方\湖南吉首鳳凰.jpg"/>
          <p:cNvPicPr/>
          <p:nvPr/>
        </p:nvPicPr>
        <p:blipFill>
          <a:blip r:embed="rId2"/>
          <a:stretch/>
        </p:blipFill>
        <p:spPr>
          <a:xfrm>
            <a:off x="2895480" y="5335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58128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9209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城外，有天星山，拔地而起，如利劍穿空。山頂有一平臺，中有 （天池），汩汩溪流，卻久旱不涸。山下有奇梁洞，洞內有雲霧山、天堂、龍宮、陰陽河等景，集桂林、張家界奇景於一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78416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城內大街小巷中辣子與燻肉的香味四季飄香，多情湘女婆娑而過。有月光的晚上，苗民男女的對歌聲可驚醒每一扇臨水的窗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E:\PPS\pps02\中國公認最美麗的地方\湖南吉首鳳凰02.jpg"/>
          <p:cNvPicPr/>
          <p:nvPr/>
        </p:nvPicPr>
        <p:blipFill>
          <a:blip r:embed="rId2"/>
          <a:stretch/>
        </p:blipFill>
        <p:spPr>
          <a:xfrm>
            <a:off x="2819520" y="5335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2:30:13Z</dcterms:created>
  <dc:creator>1_ro1</dc:creator>
  <dc:description/>
  <dc:language>en-US</dc:language>
  <cp:lastModifiedBy>SCCL-PC17</cp:lastModifiedBy>
  <dcterms:modified xsi:type="dcterms:W3CDTF">2009-06-19T03:19:00Z</dcterms:modified>
  <cp:revision>15</cp:revision>
  <dc:subject/>
  <dc:title>PowerPoint 簡報</dc:title>
</cp:coreProperties>
</file>